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ic Document Distribution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win Engwer, Netwave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d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ed extremely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members could us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data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one “misha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LAN setup was very easy (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setup (Win95) was difficult and trouble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problems were eventually re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thanks to Stuart and Bob O. for their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station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in most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predicted, sometimes it was tr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one computer could not be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many devices already inst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mputers were impaired by the install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convenient for those who choose to ins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ediate access to new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e backup solution for those members who could not use the flash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file sharing between members was also common (an unexpected benef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ice Printing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success due to lack of a real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